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66C-70A5-4EE5-A201-D53C880C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991-4537-4942-84DF-C0088EEC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C14-B959-4FA5-B2EB-DBC3D4AC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F50-EFC3-4F5C-9D65-C7E00720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2B4-6B15-4631-A34B-6464C0F0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B67-F9D9-4BFE-8872-CEC52A23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F92-1690-4171-B275-3EA09763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B33-E9D7-4008-ADCC-25BA18CB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9BE-4569-44F3-885F-A8DD7223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352-73AF-433C-8FEA-6C80E163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BFC-59A6-4CCA-90B4-85AFBF22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EC7-F8B5-4AFE-9A36-79FA095B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885D-8BA3-4343-8BD3-12737F0136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91856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"/>
              </a:rPr>
              <a:t>Sigma solu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Permutations and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143240" y="528624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6 possibilities for the third digit    – 3 us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2"/>
          <p:cNvSpPr/>
          <p:nvPr/>
        </p:nvSpPr>
        <p:spPr>
          <a:xfrm>
            <a:off x="2643120" y="5072040"/>
            <a:ext cx="3857760" cy="571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608120" y="3143160"/>
                <a:ext cx="23875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5"/>
          <p:cNvSpPr/>
          <p:nvPr/>
        </p:nvSpPr>
        <p:spPr>
          <a:xfrm>
            <a:off x="2357280" y="514368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1800" spc="-1" strike="noStrike" u="sng">
                <a:solidFill>
                  <a:srgbClr val="ff0000"/>
                </a:solidFill>
                <a:uFillTx/>
                <a:latin typeface="Arial"/>
              </a:rPr>
              <a:t>3024 different PINS are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1714680" y="4071960"/>
                <a:ext cx="14461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Text Box 5"/>
          <p:cNvSpPr/>
          <p:nvPr/>
        </p:nvSpPr>
        <p:spPr>
          <a:xfrm>
            <a:off x="3429000" y="421488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Same as saying:  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9 </a:t>
            </a:r>
            <a:r>
              <a:rPr b="1" lang="en-N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8 </a:t>
            </a:r>
            <a:r>
              <a:rPr b="1" lang="en-N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7 </a:t>
            </a:r>
            <a:r>
              <a:rPr b="1" lang="en-N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. 8.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ge 1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00040" y="507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Order matters so still perm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00040" y="507204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Order matters so still permutations. i.e.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00040" y="5072040"/>
            <a:ext cx="83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PINS starting with an odd digit 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Order matters so still permutations. i.e.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00040" y="5072040"/>
            <a:ext cx="8358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PINS starting with an odd digit 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or  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6429240" y="6143760"/>
            <a:ext cx="235764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99680" y="100008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of the PIN numbers start with an odd dig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umber of possibilities for first digit = 5  (i.e. 1, 3, 5, 7 or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hen there are 3 remaining positions to fill.  8 unused digits left to choose from without replacement.  Order matters so still permutations. i.e.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500040" y="5072040"/>
            <a:ext cx="83581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PINS starting with an odd digit  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or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8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7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1680 P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57120" y="6072120"/>
            <a:ext cx="714600" cy="571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5717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7"/>
          <p:cNvSpPr/>
          <p:nvPr/>
        </p:nvSpPr>
        <p:spPr>
          <a:xfrm>
            <a:off x="2786040" y="6143760"/>
            <a:ext cx="235764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99680" y="856800"/>
            <a:ext cx="86439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c) Calculate th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that a client is given a PIN number starting with an odd di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0" y="3714840"/>
            <a:ext cx="8715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PINS starting with an odd digit (from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1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2786040"/>
            <a:ext cx="8929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otal number poss. PIN numbers (from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NZ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3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0" y="45720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(1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digit is odd) 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2857680" y="4500720"/>
                <a:ext cx="4798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r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PINS starting with an odd digit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PIN number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2928960" y="5357880"/>
                <a:ext cx="7542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80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24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Text Box 5"/>
          <p:cNvSpPr/>
          <p:nvPr/>
        </p:nvSpPr>
        <p:spPr>
          <a:xfrm>
            <a:off x="214200" y="55008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3143160" y="6127920"/>
                <a:ext cx="3301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Text Box 5"/>
          <p:cNvSpPr/>
          <p:nvPr/>
        </p:nvSpPr>
        <p:spPr>
          <a:xfrm>
            <a:off x="214200" y="62704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NZ" sz="22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(i.e. </a:t>
            </a:r>
            <a:r>
              <a:rPr b="1" i="1" lang="en-NZ" sz="24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339933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339933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20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20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2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6"/>
          <p:cNvSpPr/>
          <p:nvPr/>
        </p:nvSpPr>
        <p:spPr>
          <a:xfrm>
            <a:off x="5357880" y="5572080"/>
            <a:ext cx="3643200" cy="71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‘numbers’ c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Repeats allowed (i.e. </a:t>
            </a:r>
            <a:r>
              <a:rPr b="1" i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with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 replacement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 so the number of possibilities does not reduce after a digit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57120" y="557208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 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26 000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different ‘numb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928800" y="328608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1000080" y="3643200"/>
            <a:ext cx="714600" cy="57168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264312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5002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4429080" y="364320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2571840" y="32860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3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85840" y="45007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So number of possible ‘numbers’  =   26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357120" y="50007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or  26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would end in the numbers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Repeats still allowed (i.e.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replacement) so the number of possibilities for the other positions stay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928800" y="38577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1000080" y="4214880"/>
            <a:ext cx="714600" cy="57132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2643120" y="4214880"/>
            <a:ext cx="714600" cy="5713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3500280" y="4214880"/>
            <a:ext cx="714600" cy="5713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5572080" y="4214880"/>
            <a:ext cx="714600" cy="571320"/>
          </a:xfrm>
          <a:prstGeom prst="rect">
            <a:avLst/>
          </a:prstGeom>
          <a:solidFill>
            <a:srgbClr val="ffc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2428920" y="38577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2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4929120" y="38577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Last digit is either 8 or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8"/>
          <p:cNvSpPr/>
          <p:nvPr/>
        </p:nvSpPr>
        <p:spPr>
          <a:xfrm>
            <a:off x="5357880" y="6000840"/>
            <a:ext cx="3643200" cy="85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  -    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b)How many would end in the numbers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Repeats still allowed (i.e.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replacement) so the number of possibilities for the other positions stay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928800" y="38577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339933"/>
                </a:solidFill>
                <a:latin typeface="Arial"/>
              </a:rPr>
              <a:t>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00080" y="4214880"/>
            <a:ext cx="714600" cy="57132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2643120" y="4214880"/>
            <a:ext cx="714600" cy="5713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3500280" y="4214880"/>
            <a:ext cx="714600" cy="57132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5572080" y="4214880"/>
            <a:ext cx="714600" cy="571320"/>
          </a:xfrm>
          <a:prstGeom prst="rect">
            <a:avLst/>
          </a:prstGeom>
          <a:solidFill>
            <a:srgbClr val="ffc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428920" y="385776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ff"/>
                </a:solidFill>
                <a:latin typeface="Arial"/>
              </a:rPr>
              <a:t>2 digits from 0 to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929120" y="38577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Last digit is either 8 or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6357960" y="4286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Comic Sans MS"/>
              </a:rPr>
              <a:t>2 pos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285840" y="49561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So number of possible ‘numbers’  =   26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57120" y="545616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or  26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2 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357120" y="602784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  </a:t>
            </a:r>
            <a:r>
              <a:rPr b="1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5 200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different ‘numbe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ossible ending in 8 or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7"/>
          <p:cNvSpPr/>
          <p:nvPr/>
        </p:nvSpPr>
        <p:spPr>
          <a:xfrm>
            <a:off x="3857760" y="6143760"/>
            <a:ext cx="235728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99680" y="856800"/>
            <a:ext cx="86439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mpany ‘numbers’ its invoices to clients using 1 letter of the alphabet followed by 3 digits from 0 to 9, repeat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c) Calculate th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f choosing an invoice that does not contain the number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NZ" sz="2400" spc="-1" strike="noStrike">
                <a:solidFill>
                  <a:srgbClr val="0000ff"/>
                </a:solidFill>
                <a:latin typeface="Arial"/>
              </a:rPr>
              <a:t>(NCEA Merit level)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0" y="371484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Nbr poss. invoice numbers not containing a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26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NZ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18 9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0" y="278604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Total number poss. invoice ‘numbers’ (from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26 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26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0" y="457200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(does not contain a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 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3741840" y="4500720"/>
                <a:ext cx="5175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r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voice numbers not containing a 1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voice number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3917880" y="5357880"/>
                <a:ext cx="9190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54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000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Text Box 5"/>
          <p:cNvSpPr/>
          <p:nvPr/>
        </p:nvSpPr>
        <p:spPr>
          <a:xfrm>
            <a:off x="1071720" y="550080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1285920" y="62704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0.729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NZ" sz="22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7"/>
          <p:cNvSpPr/>
          <p:nvPr/>
        </p:nvSpPr>
        <p:spPr>
          <a:xfrm>
            <a:off x="4714920" y="6143760"/>
            <a:ext cx="385776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A cricket team of 11 is to be chosen from a squad of 14, 2 of whom are brothers.  Find the probability tha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(a) Both brothers are chos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0" y="342900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here is only one way of selecting both brothers: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0" y="2643120"/>
            <a:ext cx="8929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umber poss. combinations for the 1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1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36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0" y="4572000"/>
            <a:ext cx="8929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P(selecting both brothers in the 11)  =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4572000" y="4500720"/>
                <a:ext cx="440532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ays of selecting 9 non-brothers from 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ombinations for the 11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4643280" y="5214960"/>
                <a:ext cx="6843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Text Box 5"/>
          <p:cNvSpPr/>
          <p:nvPr/>
        </p:nvSpPr>
        <p:spPr>
          <a:xfrm>
            <a:off x="1071720" y="550080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1285920" y="62704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or  0.6044 (4sf) </a:t>
            </a:r>
            <a:r>
              <a:rPr b="0" lang="en-NZ" sz="2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1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0" y="1857240"/>
            <a:ext cx="892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his is a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on-only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problem (note the word ‘chosen’).  Order is not important.  So we’re dealing with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0" y="392904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umber of ways of selecting the other 9 from the other 12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9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22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"/>
              <p:cNvSpPr txBox="1"/>
              <p:nvPr/>
            </p:nvSpPr>
            <p:spPr>
              <a:xfrm>
                <a:off x="4786200" y="6126120"/>
                <a:ext cx="401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7"/>
          <p:cNvSpPr/>
          <p:nvPr/>
        </p:nvSpPr>
        <p:spPr>
          <a:xfrm>
            <a:off x="4714920" y="6143760"/>
            <a:ext cx="385776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A cricket team of 11 is to be chosen from a squad of 14, 2 of whom are brothers.  Find the probability tha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Neither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rother is chos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342900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here is only one way of selecting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neither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brother: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0" y="2643120"/>
            <a:ext cx="8929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umber poss. combinations for the 1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1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36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0" y="4572000"/>
            <a:ext cx="8929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neither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ro. in the 11)  =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4524480" y="4500720"/>
                <a:ext cx="450216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b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ways of selecting 11 non-brothers from 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ombinations for the 11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4643280" y="5214960"/>
                <a:ext cx="6843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Text Box 5"/>
          <p:cNvSpPr/>
          <p:nvPr/>
        </p:nvSpPr>
        <p:spPr>
          <a:xfrm>
            <a:off x="1071720" y="550080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285920" y="62704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or  0.03297 (4sf) </a:t>
            </a:r>
            <a:r>
              <a:rPr b="0" lang="en-NZ" sz="2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1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0" y="1857240"/>
            <a:ext cx="892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till is a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on-only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problem (note the word ‘chosen’).  Order is not important.  So we’re dealing with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0" y="392904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all 11 from the 12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-brother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2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4"/>
              <p:cNvSpPr txBox="1"/>
              <p:nvPr/>
            </p:nvSpPr>
            <p:spPr>
              <a:xfrm>
                <a:off x="4797360" y="6126120"/>
                <a:ext cx="378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7"/>
          <p:cNvSpPr/>
          <p:nvPr/>
        </p:nvSpPr>
        <p:spPr>
          <a:xfrm>
            <a:off x="3786120" y="6143760"/>
            <a:ext cx="3857760" cy="71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A cricket team of 11 is to be chosen from a squad of 14, 2 of whom are brothers.  Find the probability tha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Only one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rother is chosen.   </a:t>
            </a: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0" y="342900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1 brother from 2: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2 (could pick either br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0" y="2643120"/>
            <a:ext cx="8929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umber poss. combinations for the 1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1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=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36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0" y="457200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bro. in the 11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2"/>
              <p:cNvSpPr txBox="1"/>
              <p:nvPr/>
            </p:nvSpPr>
            <p:spPr>
              <a:xfrm>
                <a:off x="3841920" y="4500720"/>
                <a:ext cx="530208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1bro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10 non-b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ombinations for the 11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741840" y="5214960"/>
                <a:ext cx="12031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Text Box 5"/>
          <p:cNvSpPr/>
          <p:nvPr/>
        </p:nvSpPr>
        <p:spPr>
          <a:xfrm>
            <a:off x="1071720" y="550080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285920" y="62704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or  0.3626 (4sf) </a:t>
            </a:r>
            <a:r>
              <a:rPr b="0" lang="en-NZ" sz="21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1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0" y="1857240"/>
            <a:ext cx="892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till is a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on-only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problem (note the word ‘chosen’).  Order is not important.  So we’re dealing with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0" y="392904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10 from the 12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-brother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1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6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4"/>
              <p:cNvSpPr txBox="1"/>
              <p:nvPr/>
            </p:nvSpPr>
            <p:spPr>
              <a:xfrm>
                <a:off x="3917880" y="6126120"/>
                <a:ext cx="401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1"/>
          <p:cNvSpPr/>
          <p:nvPr/>
        </p:nvSpPr>
        <p:spPr>
          <a:xfrm>
            <a:off x="1928880" y="5572080"/>
            <a:ext cx="121428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 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=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red balls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3094200" y="3500280"/>
                <a:ext cx="4970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0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3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3117960" y="4143240"/>
                <a:ext cx="11095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8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3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4"/>
              <p:cNvSpPr txBox="1"/>
              <p:nvPr/>
            </p:nvSpPr>
            <p:spPr>
              <a:xfrm>
                <a:off x="3143160" y="4857840"/>
                <a:ext cx="401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0 of the 6 red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red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95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1"/>
          <p:cNvSpPr/>
          <p:nvPr/>
        </p:nvSpPr>
        <p:spPr>
          <a:xfrm>
            <a:off x="3143160" y="5572080"/>
            <a:ext cx="121464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 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=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1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red ball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3103560" y="3500280"/>
                <a:ext cx="49514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1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2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3129120" y="4143240"/>
                <a:ext cx="10857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2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3154320" y="4857840"/>
                <a:ext cx="378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1 of the 6 red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6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red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6"/>
              <p:cNvSpPr txBox="1"/>
              <p:nvPr/>
            </p:nvSpPr>
            <p:spPr>
              <a:xfrm>
                <a:off x="4214880" y="4857840"/>
                <a:ext cx="401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Text Box 5"/>
          <p:cNvSpPr/>
          <p:nvPr/>
        </p:nvSpPr>
        <p:spPr>
          <a:xfrm>
            <a:off x="3714840" y="5072040"/>
            <a:ext cx="4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1"/>
          <p:cNvSpPr/>
          <p:nvPr/>
        </p:nvSpPr>
        <p:spPr>
          <a:xfrm>
            <a:off x="4357800" y="5572080"/>
            <a:ext cx="128592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 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2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red ball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3103560" y="3500280"/>
                <a:ext cx="49514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2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1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3129120" y="4143240"/>
                <a:ext cx="10857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1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4"/>
              <p:cNvSpPr txBox="1"/>
              <p:nvPr/>
            </p:nvSpPr>
            <p:spPr>
              <a:xfrm>
                <a:off x="3200400" y="4857840"/>
                <a:ext cx="284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8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2 of the 6 red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red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6"/>
              <p:cNvSpPr txBox="1"/>
              <p:nvPr/>
            </p:nvSpPr>
            <p:spPr>
              <a:xfrm>
                <a:off x="4214880" y="4857840"/>
                <a:ext cx="401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Text Box 5"/>
          <p:cNvSpPr/>
          <p:nvPr/>
        </p:nvSpPr>
        <p:spPr>
          <a:xfrm>
            <a:off x="3714840" y="5072040"/>
            <a:ext cx="4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8"/>
              <p:cNvSpPr txBox="1"/>
              <p:nvPr/>
            </p:nvSpPr>
            <p:spPr>
              <a:xfrm>
                <a:off x="4786200" y="6000840"/>
                <a:ext cx="357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1"/>
          <p:cNvSpPr/>
          <p:nvPr/>
        </p:nvSpPr>
        <p:spPr>
          <a:xfrm>
            <a:off x="5572080" y="5572080"/>
            <a:ext cx="1285920" cy="107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. (a)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Complete the probability distribution table for the nbr of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 obtained when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balls are selected at random from an urn containing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 red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4 yellow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balls.  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(NCEA Merit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3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0" y="3571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lang="en-NZ" sz="19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red balls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3094200" y="3500280"/>
                <a:ext cx="49701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3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0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3"/>
              <p:cNvSpPr txBox="1"/>
              <p:nvPr/>
            </p:nvSpPr>
            <p:spPr>
              <a:xfrm>
                <a:off x="3117960" y="4143240"/>
                <a:ext cx="11095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4" name="Text Box 5"/>
          <p:cNvSpPr/>
          <p:nvPr/>
        </p:nvSpPr>
        <p:spPr>
          <a:xfrm>
            <a:off x="214200" y="421488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571680" y="500076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0" y="31431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0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4"/>
              <p:cNvSpPr txBox="1"/>
              <p:nvPr/>
            </p:nvSpPr>
            <p:spPr>
              <a:xfrm>
                <a:off x="3200400" y="4857840"/>
                <a:ext cx="2840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8" name="Text Box 5"/>
          <p:cNvSpPr/>
          <p:nvPr/>
        </p:nvSpPr>
        <p:spPr>
          <a:xfrm>
            <a:off x="0" y="2714760"/>
            <a:ext cx="8715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3 of the 6 red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 2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red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6"/>
              <p:cNvSpPr txBox="1"/>
              <p:nvPr/>
            </p:nvSpPr>
            <p:spPr>
              <a:xfrm>
                <a:off x="4214880" y="4857840"/>
                <a:ext cx="401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3" name="Text Box 5"/>
          <p:cNvSpPr/>
          <p:nvPr/>
        </p:nvSpPr>
        <p:spPr>
          <a:xfrm>
            <a:off x="3714840" y="5072040"/>
            <a:ext cx="4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8"/>
              <p:cNvSpPr txBox="1"/>
              <p:nvPr/>
            </p:nvSpPr>
            <p:spPr>
              <a:xfrm>
                <a:off x="4786200" y="6000840"/>
                <a:ext cx="357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9"/>
              <p:cNvSpPr txBox="1"/>
              <p:nvPr/>
            </p:nvSpPr>
            <p:spPr>
              <a:xfrm>
                <a:off x="600084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3"/>
          <p:cNvSpPr/>
          <p:nvPr/>
        </p:nvSpPr>
        <p:spPr>
          <a:xfrm>
            <a:off x="2928960" y="4572000"/>
            <a:ext cx="3786120" cy="85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714240" y="5572080"/>
          <a:ext cx="6096240" cy="10843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442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(</a:t>
                      </a:r>
                      <a:r>
                        <a:rPr b="1" i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x</a:t>
                      </a:r>
                      <a:r>
                        <a:rPr b="1" lang="en-NZ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6. (b)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 is the number of red balls obtained, find an expression for P(</a:t>
            </a:r>
            <a:r>
              <a:rPr b="0" i="1" lang="en-NZ" sz="21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).  The expression should use combination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(NCEA Excellence leve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0" y="228600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(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i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0" y="3929040"/>
            <a:ext cx="8929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</a:t>
            </a:r>
            <a:r>
              <a:rPr b="1" i="1" lang="en-NZ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 red balls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2"/>
              <p:cNvSpPr txBox="1"/>
              <p:nvPr/>
            </p:nvSpPr>
            <p:spPr>
              <a:xfrm>
                <a:off x="2868480" y="3857760"/>
                <a:ext cx="541980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x red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Ways of selecting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-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yello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elections of 3 ball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"/>
              <p:cNvSpPr txBox="1"/>
              <p:nvPr/>
            </p:nvSpPr>
            <p:spPr>
              <a:xfrm>
                <a:off x="3071880" y="4572000"/>
                <a:ext cx="14176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5" name="Text Box 5"/>
          <p:cNvSpPr/>
          <p:nvPr/>
        </p:nvSpPr>
        <p:spPr>
          <a:xfrm>
            <a:off x="214200" y="471492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          </a:t>
            </a:r>
            <a:r>
              <a:rPr b="0" i="1" lang="en-NZ" sz="21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0" y="3143160"/>
            <a:ext cx="9144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(3-</a:t>
            </a:r>
            <a:r>
              <a:rPr b="0" i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) of the 4 yellow balls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Arial"/>
              </a:rPr>
              <a:t>(3-</a:t>
            </a:r>
            <a:r>
              <a:rPr b="1" i="1" lang="en-NZ" sz="25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0" y="2714760"/>
            <a:ext cx="87152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</a:t>
            </a:r>
            <a:r>
              <a:rPr b="0" i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of the 6 red balls     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en-NZ" sz="25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2920" y="1857240"/>
            <a:ext cx="8715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Let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: number of red balls selec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5"/>
              <p:cNvSpPr txBox="1"/>
              <p:nvPr/>
            </p:nvSpPr>
            <p:spPr>
              <a:xfrm>
                <a:off x="2357280" y="6000840"/>
                <a:ext cx="362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357192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8"/>
              <p:cNvSpPr txBox="1"/>
              <p:nvPr/>
            </p:nvSpPr>
            <p:spPr>
              <a:xfrm>
                <a:off x="4786200" y="6000840"/>
                <a:ext cx="3574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9"/>
              <p:cNvSpPr txBox="1"/>
              <p:nvPr/>
            </p:nvSpPr>
            <p:spPr>
              <a:xfrm>
                <a:off x="6000840" y="6000840"/>
                <a:ext cx="357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57120" y="5429160"/>
            <a:ext cx="40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9 possibilities for the first dig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213840" y="856800"/>
            <a:ext cx="892980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Three people each have a pair of socks, which are all washed one day then returned at random.  What is the probability that a particular person gets their own pair of socks back?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21"/>
          <p:cNvSpPr/>
          <p:nvPr/>
        </p:nvSpPr>
        <p:spPr>
          <a:xfrm>
            <a:off x="3071880" y="5786280"/>
            <a:ext cx="1071360" cy="928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 - 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0" y="2071800"/>
            <a:ext cx="8929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0" y="414324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selecting a given pair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2"/>
              <p:cNvSpPr txBox="1"/>
              <p:nvPr/>
            </p:nvSpPr>
            <p:spPr>
              <a:xfrm>
                <a:off x="2995560" y="4071960"/>
                <a:ext cx="5165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ays of selecting a specific pai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ways of selecting any 2 socks  from 6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3389400" y="4929120"/>
                <a:ext cx="5666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0" name="Text Box 5"/>
          <p:cNvSpPr/>
          <p:nvPr/>
        </p:nvSpPr>
        <p:spPr>
          <a:xfrm>
            <a:off x="214200" y="500076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571680" y="6072120"/>
            <a:ext cx="89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0" y="328608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br ways of selecting a specific pair (selecting 2 socks from 2)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- i.e. 1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4"/>
              <p:cNvSpPr txBox="1"/>
              <p:nvPr/>
            </p:nvSpPr>
            <p:spPr>
              <a:xfrm>
                <a:off x="3286080" y="5929200"/>
                <a:ext cx="3794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Text Box 5"/>
          <p:cNvSpPr/>
          <p:nvPr/>
        </p:nvSpPr>
        <p:spPr>
          <a:xfrm>
            <a:off x="0" y="285768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umber of ways of selecting 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any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2 socks from the 6 =  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6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- i.e.  1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42920" y="2000160"/>
            <a:ext cx="871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election only.  Order doesn’t matter (left sock same as right sock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ombin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-36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Without replacement.  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ng only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o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order doesn’t matter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br of possible selections of ANY 5 cards     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5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2 598 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umber of possible ‘flushes’ – i.e. selections of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Without replacement.   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ng only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o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order doesn’t matter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br of possible selections of ANY 5 cards     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5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2 598 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umber of possible ‘flushes’ – i.e. selections of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2100" spc="-1" strike="noStrike" baseline="30000">
                <a:solidFill>
                  <a:srgbClr val="ff0000"/>
                </a:solidFill>
                <a:latin typeface="Arial"/>
              </a:rPr>
              <a:t>13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Without replacement.   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ng only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o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order doesn’t matter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br of possible selections of ANY 5 cards     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5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2 598 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umber of possible ‘flushes’ – i.e. selections of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2100" spc="-1" strike="noStrike" baseline="30000">
                <a:solidFill>
                  <a:srgbClr val="ff0000"/>
                </a:solidFill>
                <a:latin typeface="Arial"/>
              </a:rPr>
              <a:t>13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(i.e. 4 suits – each has 13 cards and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we’re choosing 5 of the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5148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possible selections of 5 of same sui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Without replacement.   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Selecting only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so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order doesn’t matter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combinations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Total nbr of possible selections of ANY 5 cards      = </a:t>
            </a:r>
            <a:r>
              <a:rPr b="0" lang="en-NZ" sz="2100" spc="-1" strike="noStrike" baseline="30000">
                <a:solidFill>
                  <a:srgbClr val="ff0000"/>
                </a:solidFill>
                <a:latin typeface="Arial"/>
              </a:rPr>
              <a:t>52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2 598 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Number of possible ‘flushes’ – i.e. selections of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en-NZ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 </a:t>
            </a:r>
            <a:r>
              <a:rPr b="1" lang="en-NZ" sz="2100" spc="-1" strike="noStrike" baseline="30000">
                <a:solidFill>
                  <a:srgbClr val="ff0000"/>
                </a:solidFill>
                <a:latin typeface="Arial"/>
              </a:rPr>
              <a:t>13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NZ" sz="21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(i.e. 4 suits – each has 13 card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=  </a:t>
            </a:r>
            <a:r>
              <a:rPr b="1" lang="en-NZ" sz="2100" spc="-1" strike="noStrike">
                <a:solidFill>
                  <a:srgbClr val="ff0000"/>
                </a:solidFill>
                <a:latin typeface="Arial"/>
              </a:rPr>
              <a:t>5148 </a:t>
            </a: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 possible selections of 5 of same sui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9"/>
          <p:cNvSpPr/>
          <p:nvPr/>
        </p:nvSpPr>
        <p:spPr>
          <a:xfrm>
            <a:off x="2857680" y="6110280"/>
            <a:ext cx="4857480" cy="747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500040" y="47149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getting a flush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2666880" y="4714920"/>
                <a:ext cx="49705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ossible  selections  of 5 of the same sui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 of possible  selections  of ANY  5 card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3025800" y="5396040"/>
                <a:ext cx="781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7" name="Text Box 5"/>
          <p:cNvSpPr/>
          <p:nvPr/>
        </p:nvSpPr>
        <p:spPr>
          <a:xfrm>
            <a:off x="0" y="546732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214200" y="621504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 or  0.001981 (4sf)    </a:t>
            </a:r>
            <a:r>
              <a:rPr b="0" i="1" lang="en-NZ" sz="24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4"/>
              <p:cNvSpPr txBox="1"/>
              <p:nvPr/>
            </p:nvSpPr>
            <p:spPr>
              <a:xfrm>
                <a:off x="2855880" y="6114960"/>
                <a:ext cx="819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6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-36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1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2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4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-36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2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5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42920" y="550080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52 possibilities for the first card (could be any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142920" y="550080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52 possibilities for the first card (could be any c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571760" y="564372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12 possibilities for the second card (the other 12 from the same s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1571760" y="564372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12 possibilities for the second card (the other 12 from the same s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2643120" y="52862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11 possibilities for the 3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2 used up, so 11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2643120" y="52862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11 possibilities for the 3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2 used up, so 11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3857760" y="528624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10 possibilities for the 4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3 used up, so 10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3857760" y="528624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10 possibilities for the 4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3 used up, so 10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4857840" y="5214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9 possibilities for the 5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4 used up, so 9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solidFill>
            <a:srgbClr val="00ff99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4857840" y="5214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9 possibilities for the 5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4 used up, so 9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521496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4857840" y="5214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9 possibilities for the 5</a:t>
            </a:r>
            <a:r>
              <a:rPr b="1" lang="en-NZ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 card (4 used up, so 9 of that suit are rem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3"/>
          <p:cNvSpPr/>
          <p:nvPr/>
        </p:nvSpPr>
        <p:spPr>
          <a:xfrm>
            <a:off x="0" y="92880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NZ" sz="2100" spc="-1" strike="noStrike">
                <a:solidFill>
                  <a:srgbClr val="000000"/>
                </a:solidFill>
                <a:latin typeface="Arial"/>
              </a:rPr>
              <a:t>In the card game of Poker, a hand of 5 cards is dealt from a pack of 52.   If all 5 cards are from the same suit, the hand is called a ‘flush’.  What is the probability of getting a ‘flush’ in the game of Poker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5"/>
          <p:cNvSpPr/>
          <p:nvPr/>
        </p:nvSpPr>
        <p:spPr>
          <a:xfrm>
            <a:off x="114300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6"/>
          <p:cNvSpPr/>
          <p:nvPr/>
        </p:nvSpPr>
        <p:spPr>
          <a:xfrm>
            <a:off x="235728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7"/>
          <p:cNvSpPr/>
          <p:nvPr/>
        </p:nvSpPr>
        <p:spPr>
          <a:xfrm>
            <a:off x="357192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28"/>
          <p:cNvSpPr/>
          <p:nvPr/>
        </p:nvSpPr>
        <p:spPr>
          <a:xfrm>
            <a:off x="4786200" y="350028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9"/>
          <p:cNvSpPr/>
          <p:nvPr/>
        </p:nvSpPr>
        <p:spPr>
          <a:xfrm>
            <a:off x="6000840" y="350028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0"/>
          <p:cNvSpPr/>
          <p:nvPr/>
        </p:nvSpPr>
        <p:spPr>
          <a:xfrm>
            <a:off x="1785960" y="350028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1"/>
          <p:cNvSpPr/>
          <p:nvPr/>
        </p:nvSpPr>
        <p:spPr>
          <a:xfrm>
            <a:off x="3000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32"/>
          <p:cNvSpPr/>
          <p:nvPr/>
        </p:nvSpPr>
        <p:spPr>
          <a:xfrm>
            <a:off x="414324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3"/>
          <p:cNvSpPr/>
          <p:nvPr/>
        </p:nvSpPr>
        <p:spPr>
          <a:xfrm>
            <a:off x="5429160" y="350028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1071720" y="528624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2286000" y="528624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1"/>
          <p:cNvSpPr/>
          <p:nvPr/>
        </p:nvSpPr>
        <p:spPr>
          <a:xfrm>
            <a:off x="3500280" y="528624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2"/>
          <p:cNvSpPr/>
          <p:nvPr/>
        </p:nvSpPr>
        <p:spPr>
          <a:xfrm>
            <a:off x="4714920" y="528624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3"/>
          <p:cNvSpPr/>
          <p:nvPr/>
        </p:nvSpPr>
        <p:spPr>
          <a:xfrm>
            <a:off x="5929200" y="528624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34"/>
          <p:cNvSpPr/>
          <p:nvPr/>
        </p:nvSpPr>
        <p:spPr>
          <a:xfrm>
            <a:off x="1714680" y="528624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5"/>
          <p:cNvSpPr/>
          <p:nvPr/>
        </p:nvSpPr>
        <p:spPr>
          <a:xfrm>
            <a:off x="2928960" y="528624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6"/>
          <p:cNvSpPr/>
          <p:nvPr/>
        </p:nvSpPr>
        <p:spPr>
          <a:xfrm>
            <a:off x="4071960" y="528624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7"/>
          <p:cNvSpPr/>
          <p:nvPr/>
        </p:nvSpPr>
        <p:spPr>
          <a:xfrm>
            <a:off x="5357880" y="528624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643040" y="52862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8 possibilities for the second digit – one us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3"/>
          <p:cNvSpPr/>
          <p:nvPr/>
        </p:nvSpPr>
        <p:spPr>
          <a:xfrm>
            <a:off x="0" y="285840"/>
            <a:ext cx="864396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100" spc="-1" strike="noStrike">
                <a:solidFill>
                  <a:srgbClr val="ff0000"/>
                </a:solidFill>
                <a:latin typeface="Arial"/>
              </a:rPr>
              <a:t>OR can solve the problem without using combinations, just by using the multiplication princip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Total possible number of arrangements of </a:t>
            </a:r>
            <a:r>
              <a:rPr b="1" i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 5 card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100" spc="-1" strike="noStrike" u="sng">
                <a:solidFill>
                  <a:srgbClr val="ff0000"/>
                </a:solidFill>
                <a:uFillTx/>
                <a:latin typeface="Arial"/>
              </a:rPr>
              <a:t>Number of possible ‘flushes’ – i.e. ways of getting 5 of same su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5"/>
          <p:cNvSpPr/>
          <p:nvPr/>
        </p:nvSpPr>
        <p:spPr>
          <a:xfrm>
            <a:off x="1143000" y="185724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6"/>
          <p:cNvSpPr/>
          <p:nvPr/>
        </p:nvSpPr>
        <p:spPr>
          <a:xfrm>
            <a:off x="2357280" y="185724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7"/>
          <p:cNvSpPr/>
          <p:nvPr/>
        </p:nvSpPr>
        <p:spPr>
          <a:xfrm>
            <a:off x="3571920" y="185724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8"/>
          <p:cNvSpPr/>
          <p:nvPr/>
        </p:nvSpPr>
        <p:spPr>
          <a:xfrm>
            <a:off x="4786200" y="185724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9"/>
          <p:cNvSpPr/>
          <p:nvPr/>
        </p:nvSpPr>
        <p:spPr>
          <a:xfrm>
            <a:off x="6000840" y="185724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0"/>
          <p:cNvSpPr/>
          <p:nvPr/>
        </p:nvSpPr>
        <p:spPr>
          <a:xfrm>
            <a:off x="1785960" y="185724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1"/>
          <p:cNvSpPr/>
          <p:nvPr/>
        </p:nvSpPr>
        <p:spPr>
          <a:xfrm>
            <a:off x="3000240" y="185724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2"/>
          <p:cNvSpPr/>
          <p:nvPr/>
        </p:nvSpPr>
        <p:spPr>
          <a:xfrm>
            <a:off x="4143240" y="185724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3"/>
          <p:cNvSpPr/>
          <p:nvPr/>
        </p:nvSpPr>
        <p:spPr>
          <a:xfrm>
            <a:off x="5429160" y="185724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0"/>
          <p:cNvSpPr/>
          <p:nvPr/>
        </p:nvSpPr>
        <p:spPr>
          <a:xfrm>
            <a:off x="1143000" y="3786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1"/>
          <p:cNvSpPr/>
          <p:nvPr/>
        </p:nvSpPr>
        <p:spPr>
          <a:xfrm>
            <a:off x="2357280" y="3786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2"/>
          <p:cNvSpPr/>
          <p:nvPr/>
        </p:nvSpPr>
        <p:spPr>
          <a:xfrm>
            <a:off x="3571920" y="3786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3"/>
          <p:cNvSpPr/>
          <p:nvPr/>
        </p:nvSpPr>
        <p:spPr>
          <a:xfrm>
            <a:off x="4786200" y="3786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4"/>
          <p:cNvSpPr/>
          <p:nvPr/>
        </p:nvSpPr>
        <p:spPr>
          <a:xfrm>
            <a:off x="6000840" y="3786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5"/>
          <p:cNvSpPr/>
          <p:nvPr/>
        </p:nvSpPr>
        <p:spPr>
          <a:xfrm>
            <a:off x="1785960" y="3786120"/>
            <a:ext cx="71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6"/>
          <p:cNvSpPr/>
          <p:nvPr/>
        </p:nvSpPr>
        <p:spPr>
          <a:xfrm>
            <a:off x="3000240" y="378612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7"/>
          <p:cNvSpPr/>
          <p:nvPr/>
        </p:nvSpPr>
        <p:spPr>
          <a:xfrm>
            <a:off x="4143240" y="378612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8"/>
          <p:cNvSpPr/>
          <p:nvPr/>
        </p:nvSpPr>
        <p:spPr>
          <a:xfrm>
            <a:off x="5429160" y="3786120"/>
            <a:ext cx="7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9"/>
          <p:cNvSpPr/>
          <p:nvPr/>
        </p:nvSpPr>
        <p:spPr>
          <a:xfrm>
            <a:off x="2857680" y="5896080"/>
            <a:ext cx="4857480" cy="747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500040" y="4500720"/>
            <a:ext cx="89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000000"/>
                </a:solidFill>
                <a:latin typeface="Arial"/>
              </a:rPr>
              <a:t>P(getting a flush)  =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Object 2"/>
              <p:cNvSpPr txBox="1"/>
              <p:nvPr/>
            </p:nvSpPr>
            <p:spPr>
              <a:xfrm>
                <a:off x="2928960" y="4500720"/>
                <a:ext cx="444348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possible 'flushes'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number of po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rrangements of 5 cards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3"/>
              <p:cNvSpPr txBox="1"/>
              <p:nvPr/>
            </p:nvSpPr>
            <p:spPr>
              <a:xfrm>
                <a:off x="2857680" y="5143680"/>
                <a:ext cx="21319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8" name="Text Box 5"/>
          <p:cNvSpPr/>
          <p:nvPr/>
        </p:nvSpPr>
        <p:spPr>
          <a:xfrm>
            <a:off x="0" y="525312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"/>
          <p:cNvSpPr/>
          <p:nvPr/>
        </p:nvSpPr>
        <p:spPr>
          <a:xfrm>
            <a:off x="214200" y="600084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               or  0.001981 (4sf)    </a:t>
            </a:r>
            <a:r>
              <a:rPr b="0" i="1" lang="en-NZ" sz="2400" spc="-1" strike="noStrike">
                <a:solidFill>
                  <a:srgbClr val="0000ff"/>
                </a:solidFill>
                <a:latin typeface="Arial"/>
              </a:rPr>
              <a:t>answer</a:t>
            </a: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4"/>
              <p:cNvSpPr txBox="1"/>
              <p:nvPr/>
            </p:nvSpPr>
            <p:spPr>
              <a:xfrm>
                <a:off x="2855880" y="5900760"/>
                <a:ext cx="819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6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igma: Page 161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 8.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6439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. Bank allocates 4-digit PIN numbers.  Digits chosen from     {1, 2, 3, 4, 5, 6, 7, 8, 9}.  No digit rep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a)How many different PIN numbers are 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Without replacement and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order matter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 - arranging (not just selecting)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NZ" sz="2400" spc="-1" strike="noStrike">
                <a:solidFill>
                  <a:srgbClr val="ff0000"/>
                </a:solidFill>
                <a:latin typeface="Symbol"/>
                <a:ea typeface="Symbol"/>
              </a:rPr>
              <a:t>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ff0000"/>
                </a:solidFill>
                <a:uFillTx/>
                <a:latin typeface="Arial"/>
              </a:rPr>
              <a:t>permutations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50012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2428920" y="6072120"/>
            <a:ext cx="71424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3357720" y="6072120"/>
            <a:ext cx="714240" cy="571680"/>
          </a:xfrm>
          <a:prstGeom prst="rect">
            <a:avLst/>
          </a:prstGeom>
          <a:solidFill>
            <a:srgbClr val="66ffff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286160" y="6072120"/>
            <a:ext cx="714600" cy="57168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928960" y="5286240"/>
            <a:ext cx="40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7 possibilities for the third digit    – 2 used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3:37:48Z</dcterms:created>
  <dc:creator>Jeremy Brocklehurst</dc:creator>
  <dc:description/>
  <dc:language>en-US</dc:language>
  <cp:lastModifiedBy>Jeremy Brocklehurst</cp:lastModifiedBy>
  <dcterms:modified xsi:type="dcterms:W3CDTF">2011-04-03T09:43:53Z</dcterms:modified>
  <cp:revision>105</cp:revision>
  <dc:subject>Year 13 Statistics &amp; Modelling</dc:subject>
  <dc:title>Sigma solutions</dc:title>
</cp:coreProperties>
</file>